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3.png" ContentType="image/png"/>
  <Override PartName="/ppt/media/image21.png" ContentType="image/png"/>
  <Override PartName="/ppt/media/image10.png" ContentType="image/png"/>
  <Override PartName="/ppt/media/image6.jpeg" ContentType="image/jpeg"/>
  <Override PartName="/ppt/media/image28.jpeg" ContentType="image/jpeg"/>
  <Override PartName="/ppt/media/image7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14.jpeg" ContentType="image/jpeg"/>
  <Override PartName="/ppt/media/image8.png" ContentType="image/png"/>
  <Override PartName="/ppt/media/image30.jpeg" ContentType="image/jpeg"/>
  <Override PartName="/ppt/media/image31.jpeg" ContentType="image/jpeg"/>
  <Override PartName="/ppt/media/image19.jpeg" ContentType="image/jpeg"/>
  <Override PartName="/ppt/media/image25.png" ContentType="image/png"/>
  <Override PartName="/ppt/media/image13.png" ContentType="image/png"/>
  <Override PartName="/ppt/media/image33.gif" ContentType="image/gif"/>
  <Override PartName="/ppt/media/image22.gif" ContentType="image/gif"/>
  <Override PartName="/ppt/media/image18.jpeg" ContentType="image/jpeg"/>
  <Override PartName="/ppt/media/image5.png" ContentType="image/png"/>
  <Override PartName="/ppt/media/image29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32.png" ContentType="image/png"/>
  <Override PartName="/ppt/media/image1.png" ContentType="image/png"/>
  <Override PartName="/ppt/media/image24.png" ContentType="image/png"/>
  <Override PartName="/ppt/media/image11.jpeg" ContentType="image/jpeg"/>
  <Override PartName="/ppt/media/image15.jpeg" ContentType="image/jpeg"/>
  <Override PartName="/ppt/media/image1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4C5AB-D297-4C8C-ACD7-65A1996FB7E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9F026-EB8A-480A-A1B2-D9A2C2A9292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DC95E-412B-4214-B8D2-359D3B51642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39886-8716-4BFA-B1EF-11209A64FFB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DA015-032B-4501-A138-C334232F710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ACAA-D4E5-4C9E-88EE-D756E57DE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8A5D-895E-4A4E-B82B-B4A334112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1DE7-8825-4029-9831-482EBF2AA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7244-1B3C-4EC6-A3D0-EA2ADBC77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8526-EB8B-44D7-B08A-D29B3C202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3C74-8A75-4EE7-9C07-E60386176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853B-8829-45B0-AD9D-A3F26D9F3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0756-EFE1-44E8-82A5-BBD72A1F6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D9AD-EF60-49D0-A4E8-5C1E3B462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6A18-FA89-477A-98DE-A29DB5221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CEE2-B7E7-4DDB-84C2-CE7F9A6B1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6A9A-B100-49BB-BD9D-5A5333BB0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32CE3-692E-46EE-9306-D40E31C6889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3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paskha.ru/images/postcards/big/04.jpg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228240" y="1143000"/>
            <a:ext cx="89154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Понедельник и вторник – «купальные». Обливали водой тех, кто проспал утренний молебе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Среда – «градовая». «В среду на Светлой неделе не работают, чтобы хлеб градом не побило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Четверг – Пасха усопших, поминовение почивших родственник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Пятница – «прощеный день». Родственники и друзья просили прощения друг у друга. Тесть и теща звали в гости молодых, обвенчавшихся до Пасх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Суббота – хороводниц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Воскресенье – Красная горка. Обычно играли свадьбы, гуляли молоды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WordArt 5"/>
          <p:cNvSpPr txBox="1"/>
          <p:nvPr/>
        </p:nvSpPr>
        <p:spPr>
          <a:xfrm>
            <a:off x="1981080" y="380880"/>
            <a:ext cx="56390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5050"/>
                    </a:gs>
                    <a:gs pos="100000">
                      <a:srgbClr val="ff33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Bookman Old Style"/>
              </a:rPr>
              <a:t>Светлая седьмица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5050"/>
                  </a:gs>
                  <a:gs pos="100000">
                    <a:srgbClr val="ff3300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pic>
        <p:nvPicPr>
          <p:cNvPr id="50" name="Picture 14" descr="jajtsa50"/>
          <p:cNvPicPr/>
          <p:nvPr/>
        </p:nvPicPr>
        <p:blipFill>
          <a:blip r:embed="rId1"/>
          <a:stretch/>
        </p:blipFill>
        <p:spPr>
          <a:xfrm>
            <a:off x="6588000" y="4610160"/>
            <a:ext cx="2556000" cy="22478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12" descr="506331292"/>
          <p:cNvPicPr/>
          <p:nvPr/>
        </p:nvPicPr>
        <p:blipFill>
          <a:blip r:embed="rId1"/>
          <a:stretch/>
        </p:blipFill>
        <p:spPr>
          <a:xfrm>
            <a:off x="0" y="990720"/>
            <a:ext cx="4038480" cy="4181400"/>
          </a:xfrm>
          <a:prstGeom prst="rect">
            <a:avLst/>
          </a:prstGeom>
          <a:ln w="0">
            <a:noFill/>
          </a:ln>
        </p:spPr>
      </p:pic>
      <p:sp>
        <p:nvSpPr>
          <p:cNvPr id="91" name="WordArt 4"/>
          <p:cNvSpPr txBox="1"/>
          <p:nvPr/>
        </p:nvSpPr>
        <p:spPr>
          <a:xfrm>
            <a:off x="533520" y="228600"/>
            <a:ext cx="8229600" cy="73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5050"/>
                    </a:gs>
                    <a:gs pos="100000">
                      <a:srgbClr val="ff33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Bookman Old Style"/>
              </a:rPr>
              <a:t>Рефлексия. "Раскрась пасхальное яйцо"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5050"/>
                  </a:gs>
                  <a:gs pos="100000">
                    <a:srgbClr val="ff3300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114440" y="837720"/>
            <a:ext cx="487692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Bookman Old Style"/>
              </a:rPr>
              <a:t>Символ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Bookman Old Style"/>
              </a:rPr>
              <a:t>Солнце</a:t>
            </a: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 – символ света и жиз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Bookman Old Style"/>
              </a:rPr>
              <a:t>Крест</a:t>
            </a: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 – символ Вселенн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Bookman Old Style"/>
              </a:rPr>
              <a:t>Треугольник</a:t>
            </a: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 – символ огня, бессмерт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Bookman Old Style"/>
              </a:rPr>
              <a:t>Ветка</a:t>
            </a: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 – символ вечной жиз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Bookman Old Style"/>
              </a:rPr>
              <a:t>Цвет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00"/>
                </a:solidFill>
                <a:latin typeface="Bookman Old Style"/>
              </a:rPr>
              <a:t>Красный</a:t>
            </a:r>
            <a:r>
              <a:rPr b="1" lang="ru-RU" sz="2000" spc="-1" strike="noStrike">
                <a:solidFill>
                  <a:srgbClr val="ff3300"/>
                </a:solidFill>
                <a:latin typeface="Bookman Old Style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– цвет радости, жизни, любв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Bookman Old Style"/>
              </a:rPr>
              <a:t>Желтый</a:t>
            </a: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 – посвящается солнцу, луне, звезд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8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Bookman Old Style"/>
              </a:rPr>
              <a:t>Зеленый</a:t>
            </a: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 – символизирует весну, природ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Bookman Old Style"/>
              </a:rPr>
              <a:t>Сочетание красного и белого</a:t>
            </a: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 – благодарение Бога за защиту от з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33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6633"/>
                </a:solidFill>
                <a:latin typeface="Bookman Old Style"/>
              </a:rPr>
              <a:t>Коричневый</a:t>
            </a: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 – плодородие зем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3" descr="jajtsa50"/>
          <p:cNvPicPr/>
          <p:nvPr/>
        </p:nvPicPr>
        <p:blipFill>
          <a:blip r:embed="rId2"/>
          <a:stretch/>
        </p:blipFill>
        <p:spPr>
          <a:xfrm>
            <a:off x="7467480" y="5383080"/>
            <a:ext cx="1676520" cy="14749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" descr="57266945_ppasha"/>
          <p:cNvPicPr/>
          <p:nvPr/>
        </p:nvPicPr>
        <p:blipFill>
          <a:blip r:embed="rId3"/>
          <a:stretch/>
        </p:blipFill>
        <p:spPr>
          <a:xfrm>
            <a:off x="1143000" y="4667400"/>
            <a:ext cx="3809880" cy="21906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4" descr="57266945_ppasha"/>
          <p:cNvPicPr/>
          <p:nvPr/>
        </p:nvPicPr>
        <p:blipFill>
          <a:blip r:embed="rId4"/>
          <a:stretch/>
        </p:blipFill>
        <p:spPr>
          <a:xfrm>
            <a:off x="-533520" y="4667400"/>
            <a:ext cx="3810240" cy="21906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3" descr="586719179"/>
          <p:cNvPicPr/>
          <p:nvPr/>
        </p:nvPicPr>
        <p:blipFill>
          <a:blip r:embed="rId5"/>
          <a:stretch/>
        </p:blipFill>
        <p:spPr>
          <a:xfrm>
            <a:off x="838080" y="2590920"/>
            <a:ext cx="3200400" cy="26668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4000"/>
                            </p:stCondLst>
                            <p:childTnLst>
                              <p:par>
                                <p:cTn id="1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6000"/>
                            </p:stCondLst>
                            <p:childTnLst>
                              <p:par>
                                <p:cTn id="1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8000"/>
                            </p:stCondLst>
                            <p:childTnLst>
                              <p:par>
                                <p:cTn id="1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4000"/>
                            </p:stCondLst>
                            <p:childTnLst>
                              <p:par>
                                <p:cTn id="1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6000"/>
                            </p:stCondLst>
                            <p:childTnLst>
                              <p:par>
                                <p:cTn id="1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8000"/>
                            </p:stCondLst>
                            <p:childTnLst>
                              <p:par>
                                <p:cTn id="1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20000"/>
                            </p:stCondLst>
                            <p:childTnLst>
                              <p:par>
                                <p:cTn id="1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2000"/>
                            </p:stCondLst>
                            <p:childTnLst>
                              <p:par>
                                <p:cTn id="1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24000"/>
                            </p:stCondLst>
                            <p:childTnLst>
                              <p:par>
                                <p:cTn id="2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6000"/>
                            </p:stCondLst>
                            <p:childTnLst>
                              <p:par>
                                <p:cTn id="2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7" descr="23662706_i3"/>
          <p:cNvPicPr/>
          <p:nvPr/>
        </p:nvPicPr>
        <p:blipFill>
          <a:blip r:embed="rId1"/>
          <a:stretch/>
        </p:blipFill>
        <p:spPr>
          <a:xfrm>
            <a:off x="838080" y="914400"/>
            <a:ext cx="7721640" cy="5715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jajtsa50"/>
          <p:cNvPicPr/>
          <p:nvPr/>
        </p:nvPicPr>
        <p:blipFill>
          <a:blip r:embed="rId2"/>
          <a:stretch/>
        </p:blipFill>
        <p:spPr>
          <a:xfrm>
            <a:off x="7086600" y="5048280"/>
            <a:ext cx="2057400" cy="1809720"/>
          </a:xfrm>
          <a:prstGeom prst="rect">
            <a:avLst/>
          </a:prstGeom>
          <a:ln w="0">
            <a:noFill/>
          </a:ln>
        </p:spPr>
      </p:pic>
      <p:sp>
        <p:nvSpPr>
          <p:cNvPr id="99" name="WordArt 4"/>
          <p:cNvSpPr txBox="1"/>
          <p:nvPr/>
        </p:nvSpPr>
        <p:spPr>
          <a:xfrm>
            <a:off x="1219320" y="228600"/>
            <a:ext cx="65530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5050"/>
                    </a:gs>
                    <a:gs pos="100000">
                      <a:srgbClr val="ff33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Bookman Old Style"/>
              </a:rPr>
              <a:t>Пасхальные игры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5050"/>
                  </a:gs>
                  <a:gs pos="100000">
                    <a:srgbClr val="ff3300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</p:spTree>
  </p:cSld>
  <p:transition spd="med">
    <p:random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-360" y="685800"/>
            <a:ext cx="380988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Сквозь полудрему и с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Слышу малиновый звон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Это — рассвета гонцы 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В травах звенят бубенц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Это — средь русских равн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Вспыхнули гроздья рябин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Это — в  родимой глуш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Что-то коснулось  душ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  </a:t>
            </a: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Припе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  </a:t>
            </a: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Малиновый звон на заре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  </a:t>
            </a: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Скажи своей милой земл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  </a:t>
            </a: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Что я в нее с  детства влюблен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  </a:t>
            </a: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Как в  этот малиновый зво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WordArt 7"/>
          <p:cNvSpPr txBox="1"/>
          <p:nvPr/>
        </p:nvSpPr>
        <p:spPr>
          <a:xfrm>
            <a:off x="990720" y="152280"/>
            <a:ext cx="7619760" cy="42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5050"/>
                    </a:gs>
                    <a:gs pos="100000">
                      <a:srgbClr val="ff33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Bookman Old Style"/>
              </a:rPr>
              <a:t>Малиновый звон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5050"/>
                  </a:gs>
                  <a:gs pos="100000">
                    <a:srgbClr val="ff3300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pic>
        <p:nvPicPr>
          <p:cNvPr id="102" name="Picture 9" descr="4198871_large"/>
          <p:cNvPicPr/>
          <p:nvPr/>
        </p:nvPicPr>
        <p:blipFill>
          <a:blip r:embed="rId1"/>
          <a:stretch/>
        </p:blipFill>
        <p:spPr>
          <a:xfrm>
            <a:off x="3581280" y="685800"/>
            <a:ext cx="3733920" cy="24890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0" descr="69607600_lunapic_12957119009874_4"/>
          <p:cNvPicPr/>
          <p:nvPr/>
        </p:nvPicPr>
        <p:blipFill>
          <a:blip r:embed="rId2"/>
          <a:stretch/>
        </p:blipFill>
        <p:spPr>
          <a:xfrm>
            <a:off x="5791320" y="2590920"/>
            <a:ext cx="2966760" cy="21128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1" descr="l_25352dc7"/>
          <p:cNvPicPr/>
          <p:nvPr/>
        </p:nvPicPr>
        <p:blipFill>
          <a:blip r:embed="rId3"/>
          <a:stretch/>
        </p:blipFill>
        <p:spPr>
          <a:xfrm>
            <a:off x="3505320" y="4343400"/>
            <a:ext cx="3047760" cy="2286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1_2"/>
          <p:cNvPicPr/>
          <p:nvPr/>
        </p:nvPicPr>
        <p:blipFill>
          <a:blip r:embed="rId4"/>
          <a:stretch/>
        </p:blipFill>
        <p:spPr>
          <a:xfrm>
            <a:off x="3657600" y="2057400"/>
            <a:ext cx="5257800" cy="3733920"/>
          </a:xfrm>
          <a:prstGeom prst="rect">
            <a:avLst/>
          </a:prstGeom>
          <a:ln w="0">
            <a:noFill/>
          </a:ln>
        </p:spPr>
      </p:pic>
      <p:pic>
        <p:nvPicPr>
          <p:cNvPr id="106" name="_malinovyj_zvon.mp3" descr=""/>
          <p:cNvPicPr/>
          <p:nvPr/>
        </p:nvPicPr>
        <p:blipFill>
          <a:blip r:embed="rId5"/>
          <a:stretch/>
        </p:blipFill>
        <p:spPr>
          <a:xfrm>
            <a:off x="8686800" y="6400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7" dur="320372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10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0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0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3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0">
                                  <p:stCondLst>
                                    <p:cond delay="130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0">
                                  <p:stCondLst>
                                    <p:cond delay="1600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3" presetSubtype="10">
                                  <p:stCondLst>
                                    <p:cond delay="190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3" descr="jajtsa50"/>
          <p:cNvPicPr/>
          <p:nvPr/>
        </p:nvPicPr>
        <p:blipFill>
          <a:blip r:embed="rId1"/>
          <a:stretch/>
        </p:blipFill>
        <p:spPr>
          <a:xfrm>
            <a:off x="6588000" y="4610160"/>
            <a:ext cx="2556000" cy="22478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8" descr="512390944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WordArt 7"/>
          <p:cNvSpPr txBox="1"/>
          <p:nvPr/>
        </p:nvSpPr>
        <p:spPr>
          <a:xfrm>
            <a:off x="914400" y="380880"/>
            <a:ext cx="7467480" cy="73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5050"/>
                    </a:gs>
                    <a:gs pos="100000">
                      <a:srgbClr val="ff33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Bookman Old Style"/>
              </a:rPr>
              <a:t>Пасхальное угощение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5050"/>
                  </a:gs>
                  <a:gs pos="100000">
                    <a:srgbClr val="ff3300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800600" y="14479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  </a:t>
            </a: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Важное место в пасхальном ритуал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занимала е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Яйц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Пасх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Кул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Мясные блю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jajtsa50"/>
          <p:cNvPicPr/>
          <p:nvPr/>
        </p:nvPicPr>
        <p:blipFill>
          <a:blip r:embed="rId1"/>
          <a:stretch/>
        </p:blipFill>
        <p:spPr>
          <a:xfrm>
            <a:off x="6588000" y="4610160"/>
            <a:ext cx="2556000" cy="22478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436551004"/>
          <p:cNvPicPr/>
          <p:nvPr/>
        </p:nvPicPr>
        <p:blipFill>
          <a:blip r:embed="rId2"/>
          <a:stretch/>
        </p:blipFill>
        <p:spPr>
          <a:xfrm>
            <a:off x="762120" y="1371600"/>
            <a:ext cx="3743280" cy="52387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" dur="1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" dur="1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" dur="1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" dur="1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" dur="1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533160" y="38088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ff3300"/>
                </a:solidFill>
                <a:latin typeface="Bookman Old Style"/>
              </a:rPr>
              <a:t>Кулич</a:t>
            </a: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 – церковно – обрядовый хлеб круглой формы. Пекли его из сдобного, сладкого теста, наверху украшали крестом, белковой глазурью, цветным пшен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646990668"/>
          <p:cNvPicPr/>
          <p:nvPr/>
        </p:nvPicPr>
        <p:blipFill>
          <a:blip r:embed="rId1"/>
          <a:stretch/>
        </p:blipFill>
        <p:spPr>
          <a:xfrm>
            <a:off x="2362320" y="2666880"/>
            <a:ext cx="3962160" cy="35528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jajtsa50"/>
          <p:cNvPicPr/>
          <p:nvPr/>
        </p:nvPicPr>
        <p:blipFill>
          <a:blip r:embed="rId2"/>
          <a:stretch/>
        </p:blipFill>
        <p:spPr>
          <a:xfrm>
            <a:off x="6588000" y="4610160"/>
            <a:ext cx="2556000" cy="22478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WordArt 5"/>
          <p:cNvSpPr txBox="1"/>
          <p:nvPr/>
        </p:nvSpPr>
        <p:spPr>
          <a:xfrm>
            <a:off x="457200" y="685800"/>
            <a:ext cx="8229600" cy="73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5050"/>
                    </a:gs>
                    <a:gs pos="100000">
                      <a:srgbClr val="ff33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Bookman Old Style"/>
              </a:rPr>
              <a:t>Творожная пасха (паска)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5050"/>
                  </a:gs>
                  <a:gs pos="100000">
                    <a:srgbClr val="ff3300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343040" y="1676520"/>
            <a:ext cx="4419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Пасха (паска) - творог со сливками или сметаной, спрессованный в виде усеченной пирамидки. По церковно-славянски она называется "млеко огустевшее". На боковых ее сторонах изображается крест и буквы "ХВ", что означает "Христос Воскресе"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jajtsa50"/>
          <p:cNvPicPr/>
          <p:nvPr/>
        </p:nvPicPr>
        <p:blipFill>
          <a:blip r:embed="rId1"/>
          <a:stretch/>
        </p:blipFill>
        <p:spPr>
          <a:xfrm>
            <a:off x="6588000" y="4610160"/>
            <a:ext cx="2556000" cy="22478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0_5a254_3ebc3d41_XL"/>
          <p:cNvPicPr/>
          <p:nvPr/>
        </p:nvPicPr>
        <p:blipFill>
          <a:blip r:embed="rId2"/>
          <a:stretch/>
        </p:blipFill>
        <p:spPr>
          <a:xfrm>
            <a:off x="380880" y="1600200"/>
            <a:ext cx="3708360" cy="44956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3352320" y="1295280"/>
            <a:ext cx="53341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Не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 представить себе пасхальное поздравление без расписанного яйца. Обычай обмениваться на Пасху красным яйцом, говоря «Христос Воскресе!», очень давний. Христос дал нам жизнь, а яйцо — это знак жизни. Все христиане и приветствуют друг друга красным яйцом как знаком вечной жизн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jajtsa50"/>
          <p:cNvPicPr/>
          <p:nvPr/>
        </p:nvPicPr>
        <p:blipFill>
          <a:blip r:embed="rId1"/>
          <a:stretch/>
        </p:blipFill>
        <p:spPr>
          <a:xfrm>
            <a:off x="6588000" y="4610160"/>
            <a:ext cx="2556000" cy="224784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5" descr="04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80880" y="1600200"/>
            <a:ext cx="2946600" cy="4525920"/>
          </a:xfrm>
          <a:prstGeom prst="rect">
            <a:avLst/>
          </a:prstGeom>
          <a:ln w="19080">
            <a:solidFill>
              <a:srgbClr val="7f7f7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5" name="WordArt 9"/>
          <p:cNvSpPr txBox="1"/>
          <p:nvPr/>
        </p:nvSpPr>
        <p:spPr>
          <a:xfrm>
            <a:off x="1523880" y="457200"/>
            <a:ext cx="6324840" cy="73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5050"/>
                    </a:gs>
                    <a:gs pos="100000">
                      <a:srgbClr val="ff33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Bookman Old Style"/>
              </a:rPr>
              <a:t>Пасхальное яйцо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5050"/>
                  </a:gs>
                  <a:gs pos="100000">
                    <a:srgbClr val="ff3300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</p:spTree>
  </p:cSld>
  <p:transition spd="med">
    <p:random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8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0" y="-34920"/>
            <a:ext cx="9164520" cy="68929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"/>
          <p:cNvPicPr/>
          <p:nvPr/>
        </p:nvPicPr>
        <p:blipFill>
          <a:blip r:embed="rId2"/>
          <a:stretch/>
        </p:blipFill>
        <p:spPr>
          <a:xfrm>
            <a:off x="4541760" y="3638520"/>
            <a:ext cx="4443480" cy="282888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77720" y="18864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f0"/>
                </a:solidFill>
                <a:latin typeface="Arial"/>
                <a:ea typeface="Arial"/>
              </a:rPr>
              <a:t>Каждое яйцо имеет своё им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Объект 2" descr=""/>
          <p:cNvPicPr/>
          <p:nvPr/>
        </p:nvPicPr>
        <p:blipFill>
          <a:blip r:embed="rId3"/>
          <a:stretch/>
        </p:blipFill>
        <p:spPr>
          <a:xfrm>
            <a:off x="1085760" y="1073160"/>
            <a:ext cx="6997680" cy="21463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"/>
          <p:cNvPicPr/>
          <p:nvPr/>
        </p:nvPicPr>
        <p:blipFill>
          <a:blip r:embed="rId4"/>
          <a:stretch/>
        </p:blipFill>
        <p:spPr>
          <a:xfrm>
            <a:off x="171360" y="3713040"/>
            <a:ext cx="3973680" cy="27543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2" name="TextBox 2" descr=""/>
          <p:cNvPicPr/>
          <p:nvPr/>
        </p:nvPicPr>
        <p:blipFill>
          <a:blip r:embed="rId2"/>
          <a:stretch/>
        </p:blipFill>
        <p:spPr>
          <a:xfrm>
            <a:off x="0" y="0"/>
            <a:ext cx="5956200" cy="67975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"/>
          <p:cNvPicPr/>
          <p:nvPr/>
        </p:nvPicPr>
        <p:blipFill>
          <a:blip r:embed="rId3"/>
          <a:stretch/>
        </p:blipFill>
        <p:spPr>
          <a:xfrm>
            <a:off x="7126200" y="3398760"/>
            <a:ext cx="1666800" cy="13813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"/>
          <p:cNvPicPr/>
          <p:nvPr/>
        </p:nvPicPr>
        <p:blipFill>
          <a:blip r:embed="rId4"/>
          <a:stretch/>
        </p:blipFill>
        <p:spPr>
          <a:xfrm>
            <a:off x="7070760" y="476280"/>
            <a:ext cx="1666800" cy="13809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5"/>
          <a:stretch/>
        </p:blipFill>
        <p:spPr>
          <a:xfrm>
            <a:off x="5137200" y="3398760"/>
            <a:ext cx="1666800" cy="13813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6"/>
          <a:stretch/>
        </p:blipFill>
        <p:spPr>
          <a:xfrm>
            <a:off x="5083200" y="549360"/>
            <a:ext cx="1666800" cy="1380960"/>
          </a:xfrm>
          <a:prstGeom prst="rect">
            <a:avLst/>
          </a:prstGeom>
          <a:ln w="0">
            <a:noFill/>
          </a:ln>
        </p:spPr>
      </p:pic>
      <p:sp>
        <p:nvSpPr>
          <p:cNvPr id="77" name="Прямоугольник 3"/>
          <p:cNvSpPr/>
          <p:nvPr/>
        </p:nvSpPr>
        <p:spPr>
          <a:xfrm>
            <a:off x="5027760" y="1930320"/>
            <a:ext cx="177624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Покрасили яйцо в жёлтый цвет, нанесли капли воска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5"/>
          <p:cNvSpPr/>
          <p:nvPr/>
        </p:nvSpPr>
        <p:spPr>
          <a:xfrm flipH="1">
            <a:off x="7015320" y="1930320"/>
            <a:ext cx="17776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2. Окунули в оранжевую краску, ещё покапали воско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7"/>
          <p:cNvSpPr/>
          <p:nvPr/>
        </p:nvSpPr>
        <p:spPr>
          <a:xfrm>
            <a:off x="5141880" y="4843440"/>
            <a:ext cx="17337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3. Покрасили в красный цвет. Осталось снять воск и натереть яйцо подсолнечным масло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8"/>
          <p:cNvSpPr/>
          <p:nvPr/>
        </p:nvSpPr>
        <p:spPr>
          <a:xfrm>
            <a:off x="7126200" y="4869000"/>
            <a:ext cx="1730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4. Вот такое забавное яйцо получается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-38160" y="0"/>
            <a:ext cx="9182160" cy="70628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3165480" y="4792680"/>
            <a:ext cx="2739960" cy="2065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3" name="TextBox 4"/>
          <p:cNvSpPr/>
          <p:nvPr/>
        </p:nvSpPr>
        <p:spPr>
          <a:xfrm>
            <a:off x="108000" y="189000"/>
            <a:ext cx="885672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исанки</a:t>
            </a: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яйца, раскрашенные от руки сюжетными или орнаментальными узорами. Это искусно расписанные пасхальные яйца, настоящие произведения народного творчеств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рисунка писанки используют элементы раститель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животного мира, геометрические фигур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санку не рисовали, не расписывали, а писали на сыром курином яйце. Эти яйца хранили целый год, как обере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ие яйца линиями своих узоров как бы напоминают о бичевании Христа. Поэтому красить и расписывать яйца положено в особый день на Страстной седмице (неделе) - в Великий четверг или Великую пятниц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3" descr=""/>
          <p:cNvPicPr/>
          <p:nvPr/>
        </p:nvPicPr>
        <p:blipFill>
          <a:blip r:embed="rId3"/>
          <a:stretch/>
        </p:blipFill>
        <p:spPr>
          <a:xfrm>
            <a:off x="108000" y="4792680"/>
            <a:ext cx="2755800" cy="2065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6215040" y="4784760"/>
            <a:ext cx="2749680" cy="2050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151920" y="1218960"/>
            <a:ext cx="89917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Пасхальное яйцо, зарытое на огороде или на поле, обеспечит плодородие и богатый урожа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Яйцо, спрятанное в хлеву, спасет от болезней скот, увеличит надои молок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На Пасху небо ясное и солнце играет – к хорошему урожаю и красному лет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На Пасху дождь – к урожа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На второй день ясная погода  - лето будет сухое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jajtsa50"/>
          <p:cNvPicPr/>
          <p:nvPr/>
        </p:nvPicPr>
        <p:blipFill>
          <a:blip r:embed="rId1"/>
          <a:stretch/>
        </p:blipFill>
        <p:spPr>
          <a:xfrm>
            <a:off x="6588000" y="4610160"/>
            <a:ext cx="2556000" cy="2247840"/>
          </a:xfrm>
          <a:prstGeom prst="rect">
            <a:avLst/>
          </a:prstGeom>
          <a:ln w="0">
            <a:noFill/>
          </a:ln>
        </p:spPr>
      </p:pic>
      <p:sp>
        <p:nvSpPr>
          <p:cNvPr id="88" name="WordArt 6"/>
          <p:cNvSpPr txBox="1"/>
          <p:nvPr/>
        </p:nvSpPr>
        <p:spPr>
          <a:xfrm>
            <a:off x="2286000" y="228600"/>
            <a:ext cx="6553080" cy="73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5050"/>
                    </a:gs>
                    <a:gs pos="100000">
                      <a:srgbClr val="ff33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Bookman Old Style"/>
              </a:rPr>
              <a:t>Народные приметы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5050"/>
                  </a:gs>
                  <a:gs pos="100000">
                    <a:srgbClr val="ff3300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pic>
        <p:nvPicPr>
          <p:cNvPr id="89" name="Picture 7" descr="467711866"/>
          <p:cNvPicPr/>
          <p:nvPr/>
        </p:nvPicPr>
        <p:blipFill>
          <a:blip r:embed="rId2"/>
          <a:stretch/>
        </p:blipFill>
        <p:spPr>
          <a:xfrm>
            <a:off x="228600" y="0"/>
            <a:ext cx="1905120" cy="12477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4" dur="2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4000"/>
                            </p:stCondLst>
                            <p:childTnLst>
                              <p:par>
                                <p:cTn id="12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0" dur="2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6000"/>
                            </p:stCondLst>
                            <p:childTnLst>
                              <p:par>
                                <p:cTn id="13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6" dur="2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8000"/>
                            </p:stCondLst>
                            <p:childTnLst>
                              <p:par>
                                <p:cTn id="13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2" dur="20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8" dur="20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ustomer</cp:lastModifiedBy>
  <dcterms:modified xsi:type="dcterms:W3CDTF">2014-02-01T14:16:44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